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18.wmf" ContentType="image/x-wmf"/>
  <Override PartName="/ppt/media/image20.wmf" ContentType="image/x-wmf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B766-6181-4031-9E70-BC9FC467D3C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35A5-2168-421D-812A-34B66FC4FF2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A0C8-4437-46D3-B53B-9EB96F75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CA5-A3B4-4F05-B156-1EE6E5E2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654EAE-CAC7-4232-A26A-7A351170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516F8-9957-49B7-826C-FDD62368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0BB5A-C8D8-4CD0-8F8B-BDA11611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29C65-CCAA-4261-8E99-33859107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3A061-14D5-4D5E-9254-014D2F9A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B1709-140E-44A9-B38E-E0C63894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36633-F271-453F-99DE-0F17D42E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1A9F7-D2DC-4A13-A15B-8A89489D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5C308-33AF-47D5-8E03-3433E73E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6ED86-56ED-4050-AB29-20E66394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081-F7F3-47CD-9B8B-7B338F67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AD96E-FCD3-4984-9802-DD70F0C1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9829B-4415-4011-A63A-B662BDA3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7A800-28E6-41EB-A900-5C1F461C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42935-1591-4B9E-A71F-92D0E6CF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A844C-BB16-4FF7-85BD-B6FE1B0B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A2CBF-68F7-4064-B006-5BF11ED1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D2363-D3CE-45F1-9646-34BDBE6E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37C97-44B4-4011-9AF8-102ED0FA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36975-2D33-4BED-8BEE-45F1FDAC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E83A9-5F8D-418B-844C-8143BDC1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9F5-7D3C-44E1-97D5-FB00D58A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35CA8-A76B-4466-AE9F-19ACBB93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2606B-A5F5-470D-AFF2-3B242493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889E7-0A8B-435C-A354-FA1D99ED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14333-0300-4A0F-9CAC-744E23E3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1DCF4-CCF9-4059-8B32-B0EE91A1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E0EC7-7E9C-4134-849F-81CB7856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5F434-2B83-4620-9CFF-181E41BF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E8EB6-1015-49F0-8D98-94383116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347CB-4406-4F97-9975-E83B596E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BDCB6-48E8-4B78-A729-7D2933C2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91F6-96B4-479C-A417-67B83FA1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BEC80-23E9-45F6-A48D-A1267CE6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08A5C-73F8-489B-9DDB-A3AD2A4F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481D0-EE88-4784-BF2D-B8AE506F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1CB02-B16A-43B9-BD30-79EBC3BA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84A88-5F19-49F3-BBA4-16B1BF6B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DB0AE-6DB4-421B-829C-6AECE7AD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35E9D-06E2-4EAC-93BB-E562F939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B977C-731F-4257-93B1-AED99AEA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CD5E2-C37D-48CB-BFA6-068E4775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726F0-E3E0-48DE-AE4E-03838E9C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719B-CFDF-422A-B85E-FA5376DA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B2D36-746A-4340-849C-DC68614B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EA98B-4A4C-405C-A974-23054B49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49794-A272-499A-AC43-B761D069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8EF7D-F61D-45B5-BD0E-FC1CB2CC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1D845-B9B7-4C7B-BC4D-5661BBAA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B0591B-F475-42DF-A16E-F9D2C076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CF799-18AE-4A06-B47E-DA5A3E03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0772A-7A87-40EF-8920-56854963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415B71-5CC0-4000-ACA0-178CA2E9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31016-261B-490F-9963-02E9D88D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FE5D-56C1-44C3-869B-05C415A8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D8C1F-2048-443E-994D-527BB495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1D71C-6E06-49BF-9E9D-38030C92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A4970B-65B5-4735-9F0D-F01F0535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C73EB1-9F90-4A84-9AE7-098A6580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CB17A-19A0-4436-B487-F0C27DB3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4AE853-426E-415D-9452-F7058B84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E8123-EF3F-4C60-9CB6-929F6ACC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1D48-07CF-4E10-B2FE-4868ED62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BD26-3341-4C43-834A-E89D7C5C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BD76-688B-4000-B657-FC35AB6D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5553-50DD-4504-A782-57E9A88D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DC5-5BE4-4ECC-B586-A2E15027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A7F7-E2A7-49FD-B106-C7D5B92C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764B-CC99-4E32-BD30-BF65F315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F281-F70C-487B-800E-16C8930B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AA66-676A-4FCD-9D5A-6808A10B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A130-0F49-4450-A36E-A16C8343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47A29-B860-4A5E-A1A7-F1645D77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AB592-AE71-41DB-BA4F-91988FE6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3FB18-663C-4129-861D-76E2AEC7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337AA-832C-48DE-9F0A-0E3A9EED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D01EB-4621-4041-AA91-D8935F7D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940-745B-468F-9FE4-A7F02645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BB725-442C-4B1A-A236-B61AA0E4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3E0F9-01A1-4CF3-8D0D-7CB03EA5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605CD-7300-4E73-ADBF-DB338FD0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FA426-81A9-49E8-878F-2DDD147A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9C955-3683-47ED-BD7D-6D649952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BC0B7-ED45-4092-9E41-FC3CCCF2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95FE3-63A0-4C5F-8249-D6C628E1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18085-D275-4C32-A356-F7777A11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60782-5A98-4F98-B557-7136BCC4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489AF-9BBE-4B02-8318-9447E6AD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F9C-BB7A-40D5-830E-03B88372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ABC65-0507-428B-9EBD-30A323CF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BB3C0-C5B9-431C-8336-9EEA9221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26EC9-6BD8-4496-9EDE-BD0D0A94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A0885-2629-42B9-8B9B-3FB46044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E170B-FAFE-4CF6-8BB8-E00F797C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05E64-FD1D-47DA-B2C1-09A6166F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F2242-6E89-4966-8102-61C8CDAE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BF1D0-97D1-4D1B-A330-C8565B23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ABB45-3B15-4C2F-9AED-0DCD0112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4F627-A52B-4E5C-82E2-EA52E2F7F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D553-85DB-4A1C-825D-B886C926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359E5-6859-4D35-9256-5B0A8822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CE997-5F5E-442F-AB09-52BE6470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B591C-841B-47DE-A4FC-6EC64905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6104A-BB89-4118-B2DA-2E699BD0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0F62E-8747-4E3B-B0DB-64FE612D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05F05-88DC-4C71-9D60-951158AA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E84A0-1328-432B-91FD-5B5C8BF3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A806A-1F68-461B-8F2A-3DDA32D7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A11EC-55BE-4BC7-8900-634C82A1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B06B2-60AA-4B09-864F-32FBB57B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ECD-5F47-4998-91ED-1F2C6262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2EE20-DD47-46C8-94EB-13B11443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FD4DD-4033-48F5-A8E7-353B49AE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0CCFB-E2B5-4E67-8AF0-909426EC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5F6B8-8C41-4110-B51D-39A3537C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928B1-D4D2-4BD6-BFE1-1470DC49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F241D-C699-4FFC-8D7D-40EFEA08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3A1D9-C2E0-4B70-8411-F9C8F4BD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2C924-ADBF-4446-ABD6-2FDB8753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1FA98-7E70-4F7C-AF36-F4F11EA4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72137-EBC8-4EE7-BC2A-F78A3088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E83-F2AE-4033-A834-3F433E44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FA545-4AE9-49C3-8164-333EC9CE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29811-C573-47AD-AAF5-23DD3005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F0181-1CBD-460F-86BC-330555F6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0B056-B69B-4CA8-A496-EB00D07B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0D94B-992B-4DA3-81E0-4BE0BE0A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3E218-8A82-428C-9716-60D17000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27A7A-E4EA-4DD2-AEB1-91492DCA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C3674-4771-4A21-A21B-18F621A8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608AA-682B-454B-8D0C-2460E041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7965A-70D2-47F2-9022-931512ED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C13-57F7-44CD-9CEE-F63F72E4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A04EF-075D-4BE9-B65D-845BD39B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637C1-ABCB-4895-8929-C9CC9BBE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7BCF1-447E-4CC6-9333-7AD3653C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ECA01-4AC9-4900-B7CA-749C194B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8CDD8-3480-45FC-90FB-70E5CAE3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6BC88-3456-42C0-80B3-F3ED1B9A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C45CE-DD15-42B8-B4A5-40317E76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88BA3-3945-4152-81B9-2133621A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61140-EDD1-4577-AEF0-35BD2CCB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C3AB5-3B94-4742-B062-ED7FE601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E2C-AE77-4E9A-AFAA-180B08DA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DA0E0-3A3F-4DF5-A00A-83E2CFF3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A2FA4-C83D-4D98-9297-E46A2B5D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DDB48-0B65-414A-911B-A3C35D80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E7D31-72D0-40EC-AC76-CAACF747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85EB7-5A74-45A4-A130-F2F0A3B0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1A4F8-0076-48A7-90B9-BCF7366B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AC61E-3F20-466F-AD78-AEFBA02F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50B0C-8646-4EFC-ADBA-B4BE5CA2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3B30C-DE0F-49E8-877D-4E4A007B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C52D7-64CB-40B5-AE65-377A86D1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DD23-9005-4910-9A4D-6822370F1FE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19A3-85A9-4D82-A80D-F52038D735D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F270-82C3-4BF7-8FE8-3A086F027DC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D679-60A4-4AF2-A838-B1C9F77A621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AD13-0E3B-4D5D-95C5-F04E42FE590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022D-1FDF-4146-AB32-4157A983435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483D-811F-44CC-A1D4-8BDA68800BE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1B35-F083-4D29-B145-1998D58C0F5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C59D-236D-424E-9CFA-5E58FD7C3E8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C5D5-9611-4963-9C4B-812E139DD0A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FBCF-1FB4-4325-8337-BAA56660AE6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A3A5-CA36-48CB-9683-DB1189BBBE7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F969-FE30-4AFA-9294-D5709A60254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4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image" Target="../media/image19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4.jpe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4.jpe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tvorba energije iz jednog oblika u drug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4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92" name="Slika 1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8351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41360" y="58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Korisn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etvorbom energija iz jednog oblika u drugi uvijek se dio energije pretvara u neželjene obli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risnost je udio poželjnog oblika energije koji nastaje pretvorb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96" name="Slika 1" descr=""/>
          <p:cNvPicPr/>
          <p:nvPr/>
        </p:nvPicPr>
        <p:blipFill>
          <a:blip r:embed="rId4"/>
          <a:stretch/>
        </p:blipFill>
        <p:spPr>
          <a:xfrm>
            <a:off x="789120" y="4292640"/>
            <a:ext cx="71434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41360" y="58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Može li energija nesta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nergija može pretvarati iz jednog oblika u drugi, prelaziti s tijela na tijelo, ali ne može nestati ili se ni iz čega pojaviti.                          Ukupna se količina energije ne mijenja.                    To 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zakon očuvanja energij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Slika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: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uglica na ni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u će visinu kuglica dosegnuti na suprotnoj strani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602" name="Slika 1" descr=""/>
          <p:cNvPicPr/>
          <p:nvPr/>
        </p:nvPicPr>
        <p:blipFill>
          <a:blip r:embed="rId4"/>
          <a:stretch/>
        </p:blipFill>
        <p:spPr>
          <a:xfrm>
            <a:off x="2843280" y="2557440"/>
            <a:ext cx="40957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456840" y="1844280"/>
            <a:ext cx="3754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e se pretvorbe energije događaju između dva krajnja položaja (točke A i točke B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Picture 2" descr=""/>
          <p:cNvPicPr/>
          <p:nvPr/>
        </p:nvPicPr>
        <p:blipFill>
          <a:blip r:embed="rId3"/>
          <a:stretch/>
        </p:blipFill>
        <p:spPr>
          <a:xfrm>
            <a:off x="4356000" y="1762200"/>
            <a:ext cx="4603680" cy="3943440"/>
          </a:xfrm>
          <a:prstGeom prst="rect">
            <a:avLst/>
          </a:prstGeom>
          <a:ln w="0">
            <a:noFill/>
          </a:ln>
        </p:spPr>
      </p:pic>
      <p:pic>
        <p:nvPicPr>
          <p:cNvPr id="605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očka 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hr-HR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= 0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n-NO" sz="32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i="1" lang="nn-NO" sz="3200" spc="-1" strike="noStrike" baseline="-25000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nn-NO" sz="3200" spc="-1" strike="noStrike">
                <a:solidFill>
                  <a:srgbClr val="000000"/>
                </a:solidFill>
                <a:latin typeface="Calibri"/>
              </a:rPr>
              <a:t> = 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očka C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hr-HR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= E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n-NO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nn-NO" sz="3200" spc="-1" strike="noStrike" baseline="-25000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nn-N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n-NO" sz="3200" spc="-1" strike="noStrike">
                <a:solidFill>
                  <a:srgbClr val="000000"/>
                </a:solidFill>
                <a:latin typeface="Calibri"/>
              </a:rPr>
              <a:t>=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očka B: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hr-HR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= 0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n-NO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nn-NO" sz="3200" spc="-1" strike="noStrike" baseline="-25000">
                <a:solidFill>
                  <a:srgbClr val="000000"/>
                </a:solidFill>
                <a:latin typeface="Calibri"/>
              </a:rPr>
              <a:t>g</a:t>
            </a:r>
            <a:r>
              <a:rPr b="0" i="1" lang="nn-NO" sz="3200" spc="-1" strike="noStrike">
                <a:solidFill>
                  <a:srgbClr val="000000"/>
                </a:solidFill>
                <a:latin typeface="Calibri"/>
              </a:rPr>
              <a:t> =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čega se uteg nakon nekog vremena zaustav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Slika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ko bi se gibao uteg, kada bismo nekako uspjeli ukloniti silu trenja u niti i otpora zra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ada bismo uteg uspjeli izolirati od okoline, on bi se zauvijek njihao na niti. Njegova bi energija zauvijek ostala sačuva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179280" y="347400"/>
            <a:ext cx="885672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zmisli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1. Može li energija nestati? Opišite i objasni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2. Objasnite što to znači da je korisnost benzinsko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otora 20%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3. Zašto obične žarulje sa žarnom niti više nisu u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porab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612" name="Slika 1" descr=""/>
          <p:cNvPicPr/>
          <p:nvPr/>
        </p:nvPicPr>
        <p:blipFill>
          <a:blip r:embed="rId4"/>
          <a:stretch/>
        </p:blipFill>
        <p:spPr>
          <a:xfrm>
            <a:off x="0" y="633240"/>
            <a:ext cx="1074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684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nergiju možem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renosit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na velike udaljenosti (npr. električna energija – dalekovod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anje količine električne energije možem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hranjivati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(baterija, akumulato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3" descr="dreamstimefree_232708.jpg"/>
          <p:cNvPicPr/>
          <p:nvPr/>
        </p:nvPicPr>
        <p:blipFill>
          <a:blip r:embed="rId1"/>
          <a:stretch/>
        </p:blipFill>
        <p:spPr>
          <a:xfrm>
            <a:off x="5724360" y="1628640"/>
            <a:ext cx="2718000" cy="4077000"/>
          </a:xfrm>
          <a:prstGeom prst="rect">
            <a:avLst/>
          </a:prstGeom>
          <a:ln w="0">
            <a:noFill/>
          </a:ln>
        </p:spPr>
      </p:pic>
      <p:pic>
        <p:nvPicPr>
          <p:cNvPr id="557" name="Slika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395280" y="1052280"/>
            <a:ext cx="82915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kućanstvima je najveći dio energije koju koristimo u obliku električne energij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lektričnu energiju različitim električnim uređajima pretvaramo u bilo koji drugi koristan obli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vedite neke uređaje i oblike energije koje koristite kod kuć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Slika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68360" y="134136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koje se oblike pretvara naša energija kada trčim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3"/>
          <p:cNvSpPr/>
          <p:nvPr/>
        </p:nvSpPr>
        <p:spPr>
          <a:xfrm>
            <a:off x="1042920" y="3933720"/>
            <a:ext cx="1873440" cy="11912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Kemijska  energija h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4"/>
          <p:cNvSpPr/>
          <p:nvPr/>
        </p:nvSpPr>
        <p:spPr>
          <a:xfrm>
            <a:off x="3203640" y="4149720"/>
            <a:ext cx="1081080" cy="79200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5"/>
          <p:cNvSpPr/>
          <p:nvPr/>
        </p:nvSpPr>
        <p:spPr>
          <a:xfrm>
            <a:off x="4500720" y="4076640"/>
            <a:ext cx="19429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Kinetička energ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6"/>
          <p:cNvSpPr/>
          <p:nvPr/>
        </p:nvSpPr>
        <p:spPr>
          <a:xfrm>
            <a:off x="4500720" y="2852640"/>
            <a:ext cx="1942920" cy="100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alibri"/>
                <a:ea typeface="Arial"/>
              </a:rPr>
              <a:t>Energija zagrijavanja našeg tij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8"/>
          <p:cNvSpPr/>
          <p:nvPr/>
        </p:nvSpPr>
        <p:spPr>
          <a:xfrm>
            <a:off x="4500720" y="5084640"/>
            <a:ext cx="1942920" cy="1008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alibri"/>
                <a:ea typeface="Arial"/>
              </a:rPr>
              <a:t>Energija zagrijavanja oko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ight Arrow 9"/>
          <p:cNvSpPr/>
          <p:nvPr/>
        </p:nvSpPr>
        <p:spPr>
          <a:xfrm rot="20299200">
            <a:off x="3160440" y="3701520"/>
            <a:ext cx="1079280" cy="37008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ight Arrow 10"/>
          <p:cNvSpPr/>
          <p:nvPr/>
        </p:nvSpPr>
        <p:spPr>
          <a:xfrm rot="905400">
            <a:off x="3160440" y="5003640"/>
            <a:ext cx="1081080" cy="36864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Slika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: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etvorbe energije ute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koju će se energiju pretvarati gravitacijska energija utega dok se uteg gi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71" name="Slika 1" descr=""/>
          <p:cNvPicPr/>
          <p:nvPr/>
        </p:nvPicPr>
        <p:blipFill>
          <a:blip r:embed="rId5"/>
          <a:stretch/>
        </p:blipFill>
        <p:spPr>
          <a:xfrm>
            <a:off x="4211640" y="3141720"/>
            <a:ext cx="42051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Box 7"/>
          <p:cNvSpPr/>
          <p:nvPr/>
        </p:nvSpPr>
        <p:spPr>
          <a:xfrm>
            <a:off x="3618000" y="2208240"/>
            <a:ext cx="1944720" cy="100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alibri"/>
                <a:ea typeface="Arial"/>
              </a:rPr>
              <a:t>Energija zagrijavanja utega i zra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ight Arrow 9"/>
          <p:cNvSpPr/>
          <p:nvPr/>
        </p:nvSpPr>
        <p:spPr>
          <a:xfrm rot="19271400">
            <a:off x="2147760" y="3189240"/>
            <a:ext cx="1643040" cy="37008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ight Arrow 10"/>
          <p:cNvSpPr/>
          <p:nvPr/>
        </p:nvSpPr>
        <p:spPr>
          <a:xfrm rot="20097000">
            <a:off x="4476240" y="3096720"/>
            <a:ext cx="2608560" cy="3700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1"/>
          <p:cNvSpPr/>
          <p:nvPr/>
        </p:nvSpPr>
        <p:spPr>
          <a:xfrm>
            <a:off x="7016760" y="1793880"/>
            <a:ext cx="194472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Calibri"/>
                <a:ea typeface="Arial"/>
              </a:rPr>
              <a:t>Energija zagrijavanja utega i podlo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577" name="Strelica: desno 6"/>
          <p:cNvSpPr/>
          <p:nvPr/>
        </p:nvSpPr>
        <p:spPr>
          <a:xfrm>
            <a:off x="179280" y="3056040"/>
            <a:ext cx="8906040" cy="32907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Slika 7" descr=""/>
          <p:cNvPicPr/>
          <p:nvPr/>
        </p:nvPicPr>
        <p:blipFill>
          <a:blip r:embed="rId2"/>
          <a:stretch/>
        </p:blipFill>
        <p:spPr>
          <a:xfrm>
            <a:off x="200160" y="4483080"/>
            <a:ext cx="2571480" cy="1176480"/>
          </a:xfrm>
          <a:prstGeom prst="rect">
            <a:avLst/>
          </a:prstGeom>
          <a:ln w="0">
            <a:noFill/>
          </a:ln>
        </p:spPr>
      </p:pic>
      <p:pic>
        <p:nvPicPr>
          <p:cNvPr id="579" name="Slika 8" descr=""/>
          <p:cNvPicPr/>
          <p:nvPr/>
        </p:nvPicPr>
        <p:blipFill>
          <a:blip r:embed="rId3"/>
          <a:stretch/>
        </p:blipFill>
        <p:spPr>
          <a:xfrm>
            <a:off x="3598920" y="4581360"/>
            <a:ext cx="1946160" cy="1011240"/>
          </a:xfrm>
          <a:prstGeom prst="rect">
            <a:avLst/>
          </a:prstGeom>
          <a:ln w="0">
            <a:noFill/>
          </a:ln>
        </p:spPr>
      </p:pic>
      <p:pic>
        <p:nvPicPr>
          <p:cNvPr id="580" name="Slika 13" descr=""/>
          <p:cNvPicPr/>
          <p:nvPr/>
        </p:nvPicPr>
        <p:blipFill>
          <a:blip r:embed="rId4"/>
          <a:stretch/>
        </p:blipFill>
        <p:spPr>
          <a:xfrm>
            <a:off x="6156360" y="3851280"/>
            <a:ext cx="1944720" cy="1808280"/>
          </a:xfrm>
          <a:prstGeom prst="rect">
            <a:avLst/>
          </a:prstGeom>
          <a:ln w="0">
            <a:noFill/>
          </a:ln>
        </p:spPr>
      </p:pic>
      <p:pic>
        <p:nvPicPr>
          <p:cNvPr id="581" name="Slika 14" descr=""/>
          <p:cNvPicPr/>
          <p:nvPr/>
        </p:nvPicPr>
        <p:blipFill>
          <a:blip r:embed="rId5"/>
          <a:stretch/>
        </p:blipFill>
        <p:spPr>
          <a:xfrm>
            <a:off x="2735280" y="4711680"/>
            <a:ext cx="1041480" cy="652320"/>
          </a:xfrm>
          <a:prstGeom prst="rect">
            <a:avLst/>
          </a:prstGeom>
          <a:ln w="0">
            <a:noFill/>
          </a:ln>
        </p:spPr>
      </p:pic>
      <p:pic>
        <p:nvPicPr>
          <p:cNvPr id="582" name="Slika 15" descr=""/>
          <p:cNvPicPr/>
          <p:nvPr/>
        </p:nvPicPr>
        <p:blipFill>
          <a:blip r:embed="rId6"/>
          <a:stretch/>
        </p:blipFill>
        <p:spPr>
          <a:xfrm>
            <a:off x="5489640" y="4773600"/>
            <a:ext cx="77148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250920" y="836640"/>
            <a:ext cx="8431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: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lica s vrp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koju se energiju pretvara elastična energija gumene vrp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Slika 3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85" name="Slika 1" descr=""/>
          <p:cNvPicPr/>
          <p:nvPr/>
        </p:nvPicPr>
        <p:blipFill>
          <a:blip r:embed="rId11"/>
          <a:stretch/>
        </p:blipFill>
        <p:spPr>
          <a:xfrm>
            <a:off x="2052720" y="1557360"/>
            <a:ext cx="503856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87" name="Slika 10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83516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94920" y="981000"/>
            <a:ext cx="4321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: elektromotor priključen na bateri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koje se oblike pretvara energija u ovome pokus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90" name="Slika 1" descr=""/>
          <p:cNvPicPr/>
          <p:nvPr/>
        </p:nvPicPr>
        <p:blipFill>
          <a:blip r:embed="rId5"/>
          <a:stretch/>
        </p:blipFill>
        <p:spPr>
          <a:xfrm>
            <a:off x="5148360" y="1600200"/>
            <a:ext cx="346068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08:03:13Z</dcterms:created>
  <dc:creator>Mladen Vidović</dc:creator>
  <dc:description/>
  <dc:language>en-US</dc:language>
  <cp:lastModifiedBy>MArina Dumančić</cp:lastModifiedBy>
  <dcterms:modified xsi:type="dcterms:W3CDTF">2019-09-14T14:24:24Z</dcterms:modified>
  <cp:revision>70</cp:revision>
  <dc:subject/>
  <dc:title>Svojstva energije</dc:title>
</cp:coreProperties>
</file>